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0781-53E3-4D9A-B726-41362BA0CC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AE8F-636E-4DAA-8E1E-EB9768744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97791-1D10-4CE1-BBE9-705C700E0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1B5A-2D46-4156-94D3-FDB1035D1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72BCB-5F82-43FE-83B4-F8DE621D7F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6DE3E-9052-45EF-B981-E753C30DFE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C6B86-DF37-44B6-93F1-552ADBD7B0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07E2-6F25-4FAD-9759-B858FA51BC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7B9C-3517-4412-BDFD-DA06807F98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07EE-35F0-4788-83D5-2155971BB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28A8-38C4-4423-AC16-F6AA8A5BAE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2F63-446A-4DF3-8B24-4D85640403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985F-9E25-4505-B9FC-59FAAD5CD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2FB-2228-40EC-88CA-743B878F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8C61-4F4C-4264-ABFF-D24619F2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CC30-9D64-45C1-9496-C305C038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1406-AD57-41F8-BDB5-39061772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825-E77F-4659-9897-DF0DEFE42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D656-E805-49C0-ADFD-A51D50EA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751E-C87D-486C-9F22-11F5743C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640-2154-425E-B248-6C38751A9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1419-C653-4BD6-AE47-7C4861F9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D05-3F5C-441A-A6A4-0832A733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C20-CBB5-47E9-9409-D292AD13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E1A1-15B4-49B3-B6FE-A54D4A34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9CD9-E491-4918-A3D7-1627A4238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Baleen and Toothed wh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1000">
    <p:fade thruBlk="true"/>
    <p:sndAc>
      <p:stSnd>
        <p:snd r:embed="rId1" name="click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foes of the whales would be the species of human and mother natu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C:\Documents and Settings\bcsuser\Local Settings\Temporary Internet Files\Content.IE5\BH2JRIFB\MPj04387420000[1].jpg"/>
          <p:cNvPicPr/>
          <p:nvPr/>
        </p:nvPicPr>
        <p:blipFill>
          <a:blip r:embed="rId1"/>
          <a:stretch/>
        </p:blipFill>
        <p:spPr>
          <a:xfrm>
            <a:off x="380880" y="2895480"/>
            <a:ext cx="336708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ree"/>
          <p:cNvSpPr/>
          <p:nvPr/>
        </p:nvSpPr>
        <p:spPr>
          <a:xfrm>
            <a:off x="6753240" y="3367080"/>
            <a:ext cx="1809720" cy="1809720"/>
          </a:xfrm>
          <a:prstGeom prst="pi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9000">
    <p:fade thruBlk="true"/>
    <p:sndAc>
      <p:stSnd>
        <p:snd r:embed="rId2" name="click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ways you can stop this animal from being extinct is that you can stop polluting and to always recy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fade thruBlk="true"/>
    <p:sndAc>
      <p:stSnd>
        <p:snd r:embed="rId1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extra information about whales is that over the years whaling has gotten more serious causing more and more whales to become endangered and finally extinc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C:\Documents and Settings\bcsuser\Local Settings\Temporary Internet Files\Content.IE5\BH2JRIFB\MCj04125020000[1].wmf"/>
          <p:cNvPicPr/>
          <p:nvPr/>
        </p:nvPicPr>
        <p:blipFill>
          <a:blip r:embed="rId1"/>
          <a:stretch/>
        </p:blipFill>
        <p:spPr>
          <a:xfrm>
            <a:off x="5392800" y="4116240"/>
            <a:ext cx="2216160" cy="2482920"/>
          </a:xfrm>
          <a:prstGeom prst="rect">
            <a:avLst/>
          </a:prstGeom>
          <a:ln w="0">
            <a:noFill/>
          </a:ln>
        </p:spPr>
      </p:pic>
    </p:spTree>
  </p:cSld>
  <p:transition advTm="15000">
    <p:fade thruBlk="true"/>
    <p:sndAc>
      <p:stSnd>
        <p:snd r:embed="rId2" name="click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pecies of endangered whale is toothed and bale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5" descr="C:\Documents and Settings\bcsuser\Local Settings\Temporary Internet Files\Content.IE5\XEE8IJW3\MPj02628270000[1].jpg"/>
          <p:cNvPicPr/>
          <p:nvPr/>
        </p:nvPicPr>
        <p:blipFill>
          <a:blip r:embed="rId1"/>
          <a:stretch/>
        </p:blipFill>
        <p:spPr>
          <a:xfrm>
            <a:off x="4800600" y="2286000"/>
            <a:ext cx="3657600" cy="246204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ical length is 110 feet! The typical weight of the whales is 150 tons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Documents and Settings\bcsuser\Local Settings\Temporary Internet Files\Content.IE5\9ZIT1MYZ\MCj00952450000[1].wmf"/>
          <p:cNvPicPr/>
          <p:nvPr/>
        </p:nvPicPr>
        <p:blipFill>
          <a:blip r:embed="rId1"/>
          <a:stretch/>
        </p:blipFill>
        <p:spPr>
          <a:xfrm>
            <a:off x="2743200" y="2438280"/>
            <a:ext cx="4672080" cy="375948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fespan of these whales are 20-40 years .Sometimes even 8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C:\Documents and Settings\bcsuser\Local Settings\Temporary Internet Files\Content.IE5\9ZIT1MYZ\MCBD07402_0000[1].wmf"/>
          <p:cNvPicPr/>
          <p:nvPr/>
        </p:nvPicPr>
        <p:blipFill>
          <a:blip r:embed="rId1"/>
          <a:stretch/>
        </p:blipFill>
        <p:spPr>
          <a:xfrm>
            <a:off x="196920" y="2610000"/>
            <a:ext cx="8947080" cy="40194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et is any thing from plankton to large marine animals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1" descr="C:\Documents and Settings\bcsuser\Local Settings\Temporary Internet Files\Content.IE5\XEE8IJW3\MPj04388390000[1].jpg"/>
          <p:cNvPicPr/>
          <p:nvPr/>
        </p:nvPicPr>
        <p:blipFill>
          <a:blip r:embed="rId1"/>
          <a:stretch/>
        </p:blipFill>
        <p:spPr>
          <a:xfrm>
            <a:off x="2514600" y="2133720"/>
            <a:ext cx="6407280" cy="472428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opulation ranges for each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C:\Documents and Settings\bcsuser\Local Settings\Temporary Internet Files\Content.IE5\BH2JRIFB\MPj04422560000[1].jpg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</p:spTree>
  </p:cSld>
  <p:transition advTm="8000">
    <p:fade thruBlk="true"/>
    <p:sndAc>
      <p:stSnd>
        <p:snd r:embed="rId2" name="click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y live in every oce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C:\Documents and Settings\bcsuser\Local Settings\Temporary Internet Files\Content.IE5\9ZIT1MYZ\MPj04385040000[1].jpg"/>
          <p:cNvPicPr/>
          <p:nvPr/>
        </p:nvPicPr>
        <p:blipFill>
          <a:blip r:embed="rId1"/>
          <a:stretch/>
        </p:blipFill>
        <p:spPr>
          <a:xfrm>
            <a:off x="1371600" y="2438280"/>
            <a:ext cx="6400800" cy="4419720"/>
          </a:xfrm>
          <a:prstGeom prst="rect">
            <a:avLst/>
          </a:prstGeom>
          <a:ln w="0">
            <a:noFill/>
          </a:ln>
        </p:spPr>
      </p:pic>
    </p:spTree>
  </p:cSld>
  <p:transition advTm="9000">
    <p:fade thruBlk="true"/>
    <p:sndAc>
      <p:stSnd>
        <p:snd r:embed="rId2" name="click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havior of the animals is that the toothed hunt and migrate in groups. Baleen on the other hand very seldom travels in pac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Documents and Settings\bcsuser\Local Settings\Temporary Internet Files\Content.IE5\9ZIT1MYZ\MCSY00619_0000[1].wmf"/>
          <p:cNvPicPr/>
          <p:nvPr/>
        </p:nvPicPr>
        <p:blipFill>
          <a:blip r:embed="rId1"/>
          <a:stretch/>
        </p:blipFill>
        <p:spPr>
          <a:xfrm>
            <a:off x="4724280" y="3352680"/>
            <a:ext cx="1854360" cy="1096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bcsuser\Local Settings\Temporary Internet Files\Content.IE5\9ZIT1MYZ\MCSY00619_0000[1].wmf"/>
          <p:cNvPicPr/>
          <p:nvPr/>
        </p:nvPicPr>
        <p:blipFill>
          <a:blip r:embed="rId2"/>
          <a:stretch/>
        </p:blipFill>
        <p:spPr>
          <a:xfrm>
            <a:off x="5562720" y="3657600"/>
            <a:ext cx="1854000" cy="1096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bcsuser\Local Settings\Temporary Internet Files\Content.IE5\9ZIT1MYZ\MCSY00619_0000[1].wmf"/>
          <p:cNvPicPr/>
          <p:nvPr/>
        </p:nvPicPr>
        <p:blipFill>
          <a:blip r:embed="rId3"/>
          <a:stretch/>
        </p:blipFill>
        <p:spPr>
          <a:xfrm>
            <a:off x="7010280" y="2666880"/>
            <a:ext cx="1854360" cy="1096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C:\Documents and Settings\bcsuser\Local Settings\Temporary Internet Files\Content.IE5\9ZIT1MYZ\MCSY00619_0000[1].wmf"/>
          <p:cNvPicPr/>
          <p:nvPr/>
        </p:nvPicPr>
        <p:blipFill>
          <a:blip r:embed="rId4"/>
          <a:stretch/>
        </p:blipFill>
        <p:spPr>
          <a:xfrm>
            <a:off x="0" y="4572000"/>
            <a:ext cx="1854360" cy="1096920"/>
          </a:xfrm>
          <a:prstGeom prst="rect">
            <a:avLst/>
          </a:prstGeom>
          <a:ln w="0">
            <a:noFill/>
          </a:ln>
        </p:spPr>
      </p:pic>
    </p:spTree>
  </p:cSld>
  <p:transition advTm="16000">
    <p:fade thruBlk="true"/>
    <p:sndAc>
      <p:stSnd>
        <p:snd r:embed="rId5" name="click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ndangered wh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threats of the whales would be whaling and also not being able to ea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C:\Documents and Settings\bcsuser\Local Settings\Temporary Internet Files\Content.IE5\XEE8IJW3\MCj02503200000[1].wmf"/>
          <p:cNvPicPr/>
          <p:nvPr/>
        </p:nvPicPr>
        <p:blipFill>
          <a:blip r:embed="rId1"/>
          <a:stretch/>
        </p:blipFill>
        <p:spPr>
          <a:xfrm>
            <a:off x="1523880" y="4114800"/>
            <a:ext cx="2452680" cy="1816200"/>
          </a:xfrm>
          <a:prstGeom prst="rect">
            <a:avLst/>
          </a:prstGeom>
          <a:ln w="0">
            <a:noFill/>
          </a:ln>
        </p:spPr>
      </p:pic>
    </p:spTree>
  </p:cSld>
  <p:transition advTm="10000">
    <p:fade thruBlk="true"/>
    <p:sndAc>
      <p:stSnd>
        <p:snd r:embed="rId2" name="click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02:35Z</dcterms:created>
  <dc:creator> pc#23</dc:creator>
  <dc:description/>
  <dc:language>en-US</dc:language>
  <cp:lastModifiedBy> pc#23</cp:lastModifiedBy>
  <dcterms:modified xsi:type="dcterms:W3CDTF">2009-12-01T13:58:59Z</dcterms:modified>
  <cp:revision>8</cp:revision>
  <dc:subject/>
  <dc:title>The endangered whale</dc:title>
</cp:coreProperties>
</file>